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92A-DABD-4730-B914-4057C38A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DE6-F5C1-4CAD-985C-5230222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1F3-89FF-4827-8A79-591B1BE9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1D4-9C63-4B59-B960-2F0789B7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AA3-C5C7-4C18-BA1E-F4412F0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562-0F2B-4046-8AB7-6570CC4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46F-79E9-4FBF-94CE-106B314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4E1-CE2C-4123-A722-8147B949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FCD-4717-4704-BECF-6641B55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86F-F9B7-478B-A8C2-006A0A83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57D-871E-4B13-B768-EE2AC88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36A-B7EE-4996-965F-B15A1969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A69-D2D7-4C86-99F2-0EA074A9CCD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852640"/>
            <a:ext cx="1366920" cy="2232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607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072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072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072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1844640"/>
            <a:ext cx="1366920" cy="2232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07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40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465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005360"/>
            <a:ext cx="64764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860640"/>
            <a:ext cx="504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34920" y="1892160"/>
            <a:ext cx="2197080" cy="2760840"/>
          </a:xfrm>
          <a:custGeom>
            <a:avLst/>
            <a:gdLst/>
            <a:ahLst/>
            <a:rect l="l" t="t" r="r" b="b"/>
            <a:pathLst>
              <a:path w="1384" h="1739">
                <a:moveTo>
                  <a:pt x="23" y="1467"/>
                </a:moveTo>
                <a:cubicBezTo>
                  <a:pt x="11" y="1179"/>
                  <a:pt x="0" y="892"/>
                  <a:pt x="23" y="696"/>
                </a:cubicBezTo>
                <a:cubicBezTo>
                  <a:pt x="46" y="500"/>
                  <a:pt x="23" y="364"/>
                  <a:pt x="159" y="288"/>
                </a:cubicBezTo>
                <a:cubicBezTo>
                  <a:pt x="295" y="212"/>
                  <a:pt x="636" y="0"/>
                  <a:pt x="840" y="242"/>
                </a:cubicBezTo>
                <a:cubicBezTo>
                  <a:pt x="1044" y="484"/>
                  <a:pt x="1293" y="1482"/>
                  <a:pt x="1384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2492280"/>
            <a:ext cx="1163520" cy="2700360"/>
          </a:xfrm>
          <a:custGeom>
            <a:avLst/>
            <a:gdLst/>
            <a:ahLst/>
            <a:rect l="l" t="t" r="r" b="b"/>
            <a:pathLst>
              <a:path w="733" h="1701">
                <a:moveTo>
                  <a:pt x="144" y="1096"/>
                </a:moveTo>
                <a:cubicBezTo>
                  <a:pt x="72" y="646"/>
                  <a:pt x="0" y="196"/>
                  <a:pt x="53" y="98"/>
                </a:cubicBezTo>
                <a:cubicBezTo>
                  <a:pt x="106" y="0"/>
                  <a:pt x="363" y="272"/>
                  <a:pt x="461" y="506"/>
                </a:cubicBezTo>
                <a:cubicBezTo>
                  <a:pt x="559" y="740"/>
                  <a:pt x="598" y="1307"/>
                  <a:pt x="643" y="1504"/>
                </a:cubicBezTo>
                <a:cubicBezTo>
                  <a:pt x="688" y="1701"/>
                  <a:pt x="710" y="1693"/>
                  <a:pt x="733" y="1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8244600">
            <a:off x="2916000" y="522900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8244600">
            <a:off x="3274560" y="465264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376400">
            <a:off x="826560" y="4004640"/>
            <a:ext cx="289080" cy="4316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376400">
            <a:off x="1763280" y="3860280"/>
            <a:ext cx="289080" cy="4320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924280"/>
            <a:ext cx="50472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302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860640"/>
            <a:ext cx="1366920" cy="2232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45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4869000"/>
            <a:ext cx="50508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869000"/>
            <a:ext cx="50508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2278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1557360"/>
            <a:ext cx="1366920" cy="2232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278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565360"/>
            <a:ext cx="50472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2565360"/>
            <a:ext cx="50472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2924280"/>
            <a:ext cx="50472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2278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4221000"/>
            <a:ext cx="1582920" cy="2089440"/>
          </a:xfrm>
          <a:custGeom>
            <a:avLst/>
            <a:gdLst>
              <a:gd name="textAreaLeft" fmla="*/ 77040 w 1582920"/>
              <a:gd name="textAreaRight" fmla="*/ 1505880 w 1582920"/>
              <a:gd name="textAreaTop" fmla="*/ 77040 h 2089440"/>
              <a:gd name="textAreaBottom" fmla="*/ 2012400 h 2089440"/>
            </a:gdLst>
            <a:ahLst/>
            <a:rect l="textAreaLeft" t="textAreaTop" r="textAreaRight" b="textAreaBottom"/>
            <a:pathLst>
              <a:path w="21600" h="28510">
                <a:moveTo>
                  <a:pt x="3600" y="0"/>
                </a:moveTo>
                <a:arcTo wR="3600" hR="3600" stAng="16200000" swAng="-5400000"/>
                <a:lnTo>
                  <a:pt x="0" y="24910"/>
                </a:lnTo>
                <a:arcTo wR="3600" hR="3600" stAng="10800000" swAng="-5400000"/>
                <a:lnTo>
                  <a:pt x="18000" y="28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4560" y="4365720"/>
            <a:ext cx="10796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5302080"/>
            <a:ext cx="649440" cy="576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4920" y="5518080"/>
            <a:ext cx="360360" cy="142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9500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9500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72360" y="515772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87280" y="141264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11858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219640" y="5734080"/>
            <a:ext cx="2872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638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08000" y="58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661000"/>
            <a:ext cx="194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oltag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urrent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00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14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52:16Z</dcterms:created>
  <dc:creator>SuperXP</dc:creator>
  <dc:description/>
  <dc:language>en-US</dc:language>
  <cp:lastModifiedBy>SuperXP</cp:lastModifiedBy>
  <dcterms:modified xsi:type="dcterms:W3CDTF">2008-11-10T16:35:25Z</dcterms:modified>
  <cp:revision>2</cp:revision>
  <dc:subject/>
  <dc:title>投影片 1</dc:title>
</cp:coreProperties>
</file>